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png" ContentType="image/png"/>
  <Override PartName="/ppt/media/image9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87320" y="365724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1f5b5a"/>
              </a:solidFill>
              <a:latin typeface="Baskervill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787320" y="365724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1f5b5a"/>
              </a:solidFill>
              <a:latin typeface="Baskervill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787320" y="365724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1f5b5a"/>
              </a:solidFill>
              <a:latin typeface="Baskerville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ubTitle"/>
          </p:nvPr>
        </p:nvSpPr>
        <p:spPr>
          <a:xfrm>
            <a:off x="787320" y="3657240"/>
            <a:ext cx="1143000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787320" y="365724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1f5b5a"/>
              </a:solidFill>
              <a:latin typeface="Baskervill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787320" y="365724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1f5b5a"/>
              </a:solidFill>
              <a:latin typeface="Baskervill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787320" y="365724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1f5b5a"/>
              </a:solidFill>
              <a:latin typeface="Baskerville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787320" y="365724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1f5b5a"/>
              </a:solidFill>
              <a:latin typeface="Baskerville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787320" y="365724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1f5b5a"/>
              </a:solidFill>
              <a:latin typeface="Baskervill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787320" y="365724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1f5b5a"/>
              </a:solidFill>
              <a:latin typeface="Baskervill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339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340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87320" y="365724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1f5b5a"/>
              </a:solidFill>
              <a:latin typeface="Baskervill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787320" y="365724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1f5b5a"/>
              </a:solidFill>
              <a:latin typeface="Baskerville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87320" y="365724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1f5b5a"/>
              </a:solidFill>
              <a:latin typeface="Baskerville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787320" y="365724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1f5b5a"/>
              </a:solidFill>
              <a:latin typeface="Baskerville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787320" y="365724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1f5b5a"/>
              </a:solidFill>
              <a:latin typeface="Baskerville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787320" y="3657240"/>
            <a:ext cx="1143000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787320" y="365724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1f5b5a"/>
              </a:solidFill>
              <a:latin typeface="Baskervill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787320" y="365724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1f5b5a"/>
              </a:solidFill>
              <a:latin typeface="Baskervill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787320" y="365724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1f5b5a"/>
              </a:solidFill>
              <a:latin typeface="Baskerville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787320" y="365724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1f5b5a"/>
              </a:solidFill>
              <a:latin typeface="Baskervill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787320" y="365724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1f5b5a"/>
              </a:solidFill>
              <a:latin typeface="Baskerville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87320" y="365724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1f5b5a"/>
              </a:solidFill>
              <a:latin typeface="Baskervill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787320" y="365724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1f5b5a"/>
              </a:solidFill>
              <a:latin typeface="Baskerville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787320" y="365724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1f5b5a"/>
              </a:solidFill>
              <a:latin typeface="Baskerville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787320" y="365724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1f5b5a"/>
              </a:solidFill>
              <a:latin typeface="Baskerville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787320" y="365724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1f5b5a"/>
              </a:solidFill>
              <a:latin typeface="Baskerville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787320" y="365724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1f5b5a"/>
              </a:solidFill>
              <a:latin typeface="Baskerville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787320" y="3657240"/>
            <a:ext cx="1143000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787320" y="365724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1f5b5a"/>
              </a:solidFill>
              <a:latin typeface="Baskerville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787320" y="365724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1f5b5a"/>
              </a:solidFill>
              <a:latin typeface="Baskerville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787320" y="365724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1f5b5a"/>
              </a:solidFill>
              <a:latin typeface="Baskerville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787320" y="365724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1f5b5a"/>
              </a:solidFill>
              <a:latin typeface="Baskerville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787320" y="365724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1f5b5a"/>
              </a:solidFill>
              <a:latin typeface="Baskerville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787320" y="365724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1f5b5a"/>
              </a:solidFill>
              <a:latin typeface="Baskerville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414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415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787320" y="365724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1f5b5a"/>
              </a:solidFill>
              <a:latin typeface="Baskerville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787320" y="365724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1f5b5a"/>
              </a:solidFill>
              <a:latin typeface="Baskerville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787320" y="365724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1f5b5a"/>
              </a:solidFill>
              <a:latin typeface="Baskerville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787320" y="365724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1f5b5a"/>
              </a:solidFill>
              <a:latin typeface="Baskerville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ubTitle"/>
          </p:nvPr>
        </p:nvSpPr>
        <p:spPr>
          <a:xfrm>
            <a:off x="787320" y="3657240"/>
            <a:ext cx="1143000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787320" y="365724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1f5b5a"/>
              </a:solidFill>
              <a:latin typeface="Baskerville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787320" y="365724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1f5b5a"/>
              </a:solidFill>
              <a:latin typeface="Baskervill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787320" y="365724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1f5b5a"/>
              </a:solidFill>
              <a:latin typeface="Baskerville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787320" y="365724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1f5b5a"/>
              </a:solidFill>
              <a:latin typeface="Baskerville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787320" y="365724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1f5b5a"/>
              </a:solidFill>
              <a:latin typeface="Baskerville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787320" y="365724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1f5b5a"/>
              </a:solidFill>
              <a:latin typeface="Baskerville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787320" y="365724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1f5b5a"/>
              </a:solidFill>
              <a:latin typeface="Baskerville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450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451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87320" y="365724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1f5b5a"/>
              </a:solidFill>
              <a:latin typeface="Baskerville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87320" y="365724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1f5b5a"/>
              </a:solidFill>
              <a:latin typeface="Baskerville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87320" y="365724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1f5b5a"/>
              </a:solidFill>
              <a:latin typeface="Baskerville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787320" y="3657240"/>
            <a:ext cx="1143000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87320" y="365724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1f5b5a"/>
              </a:solidFill>
              <a:latin typeface="Baskerville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87320" y="365724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1f5b5a"/>
              </a:solidFill>
              <a:latin typeface="Baskervil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87320" y="365724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1f5b5a"/>
              </a:solidFill>
              <a:latin typeface="Baskervill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87320" y="365724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1f5b5a"/>
              </a:solidFill>
              <a:latin typeface="Baskervil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87320" y="365724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1f5b5a"/>
              </a:solidFill>
              <a:latin typeface="Baskerville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87320" y="365724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1f5b5a"/>
              </a:solidFill>
              <a:latin typeface="Baskervill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87320" y="365724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1f5b5a"/>
              </a:solidFill>
              <a:latin typeface="Baskervill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87320" y="365724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1f5b5a"/>
              </a:solidFill>
              <a:latin typeface="Baskerville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87320" y="365724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1f5b5a"/>
              </a:solidFill>
              <a:latin typeface="Baskerville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87320" y="365724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1f5b5a"/>
              </a:solidFill>
              <a:latin typeface="Baskervill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87320" y="365724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1f5b5a"/>
              </a:solidFill>
              <a:latin typeface="Baskerville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87320" y="365724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1f5b5a"/>
              </a:solidFill>
              <a:latin typeface="Baskerville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787320" y="3657240"/>
            <a:ext cx="1143000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87320" y="365724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1f5b5a"/>
              </a:solidFill>
              <a:latin typeface="Baskerville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87320" y="365724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1f5b5a"/>
              </a:solidFill>
              <a:latin typeface="Baskervill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87320" y="365724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1f5b5a"/>
              </a:solidFill>
              <a:latin typeface="Baskerville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87320" y="365724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1f5b5a"/>
              </a:solidFill>
              <a:latin typeface="Baskerville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87320" y="365724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1f5b5a"/>
              </a:solidFill>
              <a:latin typeface="Baskervill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87320" y="365724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1f5b5a"/>
              </a:solidFill>
              <a:latin typeface="Baskerville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87320" y="365724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1f5b5a"/>
              </a:solidFill>
              <a:latin typeface="Baskerville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87320" y="365724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1f5b5a"/>
              </a:solidFill>
              <a:latin typeface="Baskervill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87320" y="365724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1f5b5a"/>
              </a:solidFill>
              <a:latin typeface="Baskervill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87320" y="365724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1f5b5a"/>
              </a:solidFill>
              <a:latin typeface="Baskervill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87320" y="365724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1f5b5a"/>
              </a:solidFill>
              <a:latin typeface="Baskerville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787320" y="3657240"/>
            <a:ext cx="1143000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87320" y="365724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1f5b5a"/>
              </a:solidFill>
              <a:latin typeface="Baskervill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87320" y="365724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1f5b5a"/>
              </a:solidFill>
              <a:latin typeface="Baskerville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87320" y="365724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1f5b5a"/>
              </a:solidFill>
              <a:latin typeface="Baskervill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87320" y="365724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1f5b5a"/>
              </a:solidFill>
              <a:latin typeface="Baskerville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87320" y="365724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1f5b5a"/>
              </a:solidFill>
              <a:latin typeface="Baskerville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87320" y="365724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1f5b5a"/>
              </a:solidFill>
              <a:latin typeface="Baskervill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87320" y="365724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1f5b5a"/>
              </a:solidFill>
              <a:latin typeface="Baskerville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87320" y="365724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1f5b5a"/>
              </a:solidFill>
              <a:latin typeface="Baskervill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87320" y="365724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1f5b5a"/>
              </a:solidFill>
              <a:latin typeface="Baskervill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87320" y="365724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1f5b5a"/>
              </a:solidFill>
              <a:latin typeface="Baskervill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87320" y="365724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1f5b5a"/>
              </a:solidFill>
              <a:latin typeface="Baskerville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787320" y="3657240"/>
            <a:ext cx="1143000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87320" y="365724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1f5b5a"/>
              </a:solidFill>
              <a:latin typeface="Baskerville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87320" y="365724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1f5b5a"/>
              </a:solidFill>
              <a:latin typeface="Baskerville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87320" y="365724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1f5b5a"/>
              </a:solidFill>
              <a:latin typeface="Baskerville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87320" y="365724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1f5b5a"/>
              </a:solidFill>
              <a:latin typeface="Baskerville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87320" y="365724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1f5b5a"/>
              </a:solidFill>
              <a:latin typeface="Baskerville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787320" y="3657240"/>
            <a:ext cx="1143000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87320" y="365724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1f5b5a"/>
              </a:solidFill>
              <a:latin typeface="Baskerville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87320" y="365724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1f5b5a"/>
              </a:solidFill>
              <a:latin typeface="Baskervill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787320" y="365724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1f5b5a"/>
              </a:solidFill>
              <a:latin typeface="Baskerville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87320" y="365724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1f5b5a"/>
              </a:solidFill>
              <a:latin typeface="Baskerville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87320" y="365724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1f5b5a"/>
              </a:solidFill>
              <a:latin typeface="Baskerville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787320" y="3657240"/>
            <a:ext cx="1143000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87320" y="365724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1f5b5a"/>
              </a:solidFill>
              <a:latin typeface="Baskervill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787320" y="365724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1f5b5a"/>
              </a:solidFill>
              <a:latin typeface="Baskervill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787320" y="365724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1f5b5a"/>
              </a:solidFill>
              <a:latin typeface="Baskerville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87320" y="365724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1f5b5a"/>
              </a:solidFill>
              <a:latin typeface="Baskervill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787320" y="365724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1f5b5a"/>
              </a:solidFill>
              <a:latin typeface="Baskervill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787320" y="365724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1f5b5a"/>
              </a:solidFill>
              <a:latin typeface="Baskerville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787320" y="365724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1f5b5a"/>
              </a:solidFill>
              <a:latin typeface="Baskervill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787320" y="365724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1f5b5a"/>
              </a:solidFill>
              <a:latin typeface="Baskervill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787320" y="365724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1f5b5a"/>
              </a:solidFill>
              <a:latin typeface="Baskervill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787320" y="365724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1f5b5a"/>
              </a:solidFill>
              <a:latin typeface="Baskerville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787320" y="365724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1f5b5a"/>
              </a:solidFill>
              <a:latin typeface="Baskerville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787320" y="3657240"/>
            <a:ext cx="1143000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787320" y="365724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1f5b5a"/>
              </a:solidFill>
              <a:latin typeface="Baskervill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87320" y="365724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1f5b5a"/>
              </a:solidFill>
              <a:latin typeface="Baskervill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787320" y="365724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1f5b5a"/>
              </a:solidFill>
              <a:latin typeface="Baskerville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787320" y="365724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1f5b5a"/>
              </a:solidFill>
              <a:latin typeface="Baskerville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787320" y="365724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1f5b5a"/>
              </a:solidFill>
              <a:latin typeface="Baskerville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787320" y="365724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1f5b5a"/>
              </a:solidFill>
              <a:latin typeface="Baskerville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787320" y="365724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1f5b5a"/>
              </a:solidFill>
              <a:latin typeface="Baskerville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787320" y="365724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1f5b5a"/>
              </a:solidFill>
              <a:latin typeface="Baskervill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787320" y="365724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1f5b5a"/>
              </a:solidFill>
              <a:latin typeface="Baskerville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787320" y="365724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1f5b5a"/>
              </a:solidFill>
              <a:latin typeface="Baskerville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787320" y="365724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1f5b5a"/>
              </a:solidFill>
              <a:latin typeface="Baskerville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87320" y="365724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1f5b5a"/>
              </a:solidFill>
              <a:latin typeface="Baskervill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787320" y="3657240"/>
            <a:ext cx="1143000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787320" y="365724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1f5b5a"/>
              </a:solidFill>
              <a:latin typeface="Baskerville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787320" y="365724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1f5b5a"/>
              </a:solidFill>
              <a:latin typeface="Baskerville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787320" y="365724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1f5b5a"/>
              </a:solidFill>
              <a:latin typeface="Baskervill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787320" y="365724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1f5b5a"/>
              </a:solidFill>
              <a:latin typeface="Baskervill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787320" y="365724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1f5b5a"/>
              </a:solidFill>
              <a:latin typeface="Baskerville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787320" y="365724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1f5b5a"/>
              </a:solidFill>
              <a:latin typeface="Baskerville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787320" y="365724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1f5b5a"/>
              </a:solidFill>
              <a:latin typeface="Baskerville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787320" y="365724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1f5b5a"/>
              </a:solidFill>
              <a:latin typeface="Baskerville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87320" y="365724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1f5b5a"/>
                </a:solidFill>
                <a:latin typeface="Baskerville"/>
              </a:rPr>
              <a:t>Click to edit the title text format</a:t>
            </a:r>
            <a:endParaRPr b="0" lang="en-US" sz="7800" spc="-1" strike="noStrike">
              <a:solidFill>
                <a:srgbClr val="1f5b5a"/>
              </a:solidFill>
              <a:latin typeface="Baskervil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71680" indent="-571680">
              <a:spcBef>
                <a:spcPts val="28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Click to edit the outline text format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1" marL="1015920" indent="-571320">
              <a:spcBef>
                <a:spcPts val="28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Second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2" marL="1460520" indent="-571680">
              <a:spcBef>
                <a:spcPts val="28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Third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3" marL="1905120" indent="-571680">
              <a:spcBef>
                <a:spcPts val="28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Fourth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4" marL="2349360" indent="-571320">
              <a:spcBef>
                <a:spcPts val="28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Fifth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5" marL="2349360" indent="-571320">
              <a:spcBef>
                <a:spcPts val="901"/>
              </a:spcBef>
              <a:buClr>
                <a:srgbClr val="595650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Sixth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6" marL="2349360" indent="-571320">
              <a:spcBef>
                <a:spcPts val="901"/>
              </a:spcBef>
              <a:buClr>
                <a:srgbClr val="595650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Seventh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626053"/>
                </a:solidFill>
                <a:latin typeface="Baskerville"/>
              </a:rPr>
              <a:t>Click to edit the title text format</a:t>
            </a: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626053"/>
                </a:solidFill>
                <a:latin typeface="Baskerville"/>
              </a:rPr>
              <a:t>Click to edit the title text format</a:t>
            </a: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4000"/>
          </a:bodyPr>
          <a:p>
            <a:pPr marL="537120" indent="-537120">
              <a:spcBef>
                <a:spcPts val="28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Click to edit the outline text format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1" marL="907200" indent="-536760">
              <a:spcBef>
                <a:spcPts val="28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Second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2" marL="1325160" indent="-537120">
              <a:spcBef>
                <a:spcPts val="28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Third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3" marL="1742760" indent="-537120">
              <a:spcBef>
                <a:spcPts val="28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Fourth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4" marL="2160360" indent="-536760">
              <a:spcBef>
                <a:spcPts val="28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Fifth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5" marL="2160360" indent="-536760">
              <a:spcBef>
                <a:spcPts val="2801"/>
              </a:spcBef>
              <a:buClr>
                <a:srgbClr val="595650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Sixth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6" marL="2160360" indent="-536760">
              <a:spcBef>
                <a:spcPts val="2801"/>
              </a:spcBef>
              <a:buClr>
                <a:srgbClr val="595650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Seventh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787320" y="1510920"/>
            <a:ext cx="1143000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1f5b5a"/>
                </a:solidFill>
                <a:latin typeface="Baskerville"/>
              </a:rPr>
              <a:t>Click to edit the title text format</a:t>
            </a:r>
            <a:endParaRPr b="0" lang="en-US" sz="7800" spc="-1" strike="noStrike">
              <a:solidFill>
                <a:srgbClr val="1f5b5a"/>
              </a:solidFill>
              <a:latin typeface="Baskerville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787320" y="5308200"/>
            <a:ext cx="11430000" cy="189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9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4b4b4b"/>
                </a:solidFill>
                <a:latin typeface="Hoefler Text"/>
              </a:rPr>
              <a:t>Click to edit the outline text format</a:t>
            </a:r>
            <a:endParaRPr b="0" lang="en-US" sz="5600" spc="-1" strike="noStrike">
              <a:solidFill>
                <a:srgbClr val="4b4b4b"/>
              </a:solidFill>
              <a:latin typeface="Hoefler Text"/>
            </a:endParaRPr>
          </a:p>
          <a:p>
            <a:pPr lvl="1" algn="ctr">
              <a:buClr>
                <a:srgbClr val="4b4b4b"/>
              </a:buClr>
              <a:buFont typeface="Hoefler Tex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4b4b4b"/>
                </a:solidFill>
                <a:latin typeface="Hoefler Text"/>
              </a:rPr>
              <a:t>Second Outline Level</a:t>
            </a:r>
            <a:endParaRPr b="0" lang="en-US" sz="5600" spc="-1" strike="noStrike">
              <a:solidFill>
                <a:srgbClr val="4b4b4b"/>
              </a:solidFill>
              <a:latin typeface="Hoefler Text"/>
            </a:endParaRPr>
          </a:p>
          <a:p>
            <a:pPr lvl="2" algn="ctr">
              <a:buClr>
                <a:srgbClr val="4b4b4b"/>
              </a:buClr>
              <a:buFont typeface="Hoefler Tex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4b4b4b"/>
                </a:solidFill>
                <a:latin typeface="Hoefler Text"/>
              </a:rPr>
              <a:t>Third Outline Level</a:t>
            </a:r>
            <a:endParaRPr b="0" lang="en-US" sz="5600" spc="-1" strike="noStrike">
              <a:solidFill>
                <a:srgbClr val="4b4b4b"/>
              </a:solidFill>
              <a:latin typeface="Hoefler Text"/>
            </a:endParaRPr>
          </a:p>
          <a:p>
            <a:pPr lvl="3" algn="ctr">
              <a:buClr>
                <a:srgbClr val="4b4b4b"/>
              </a:buClr>
              <a:buFont typeface="Hoefler Tex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4b4b4b"/>
                </a:solidFill>
                <a:latin typeface="Hoefler Text"/>
              </a:rPr>
              <a:t>Fourth Outline Level</a:t>
            </a:r>
            <a:endParaRPr b="0" lang="en-US" sz="5600" spc="-1" strike="noStrike">
              <a:solidFill>
                <a:srgbClr val="4b4b4b"/>
              </a:solidFill>
              <a:latin typeface="Hoefler Text"/>
            </a:endParaRPr>
          </a:p>
          <a:p>
            <a:pPr lvl="4" algn="ctr">
              <a:buClr>
                <a:srgbClr val="4b4b4b"/>
              </a:buClr>
              <a:buFont typeface="Hoefler Tex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4b4b4b"/>
                </a:solidFill>
                <a:latin typeface="Hoefler Text"/>
              </a:rPr>
              <a:t>Fifth Outline Level</a:t>
            </a:r>
            <a:endParaRPr b="0" lang="en-US" sz="5600" spc="-1" strike="noStrike">
              <a:solidFill>
                <a:srgbClr val="4b4b4b"/>
              </a:solidFill>
              <a:latin typeface="Hoefler Text"/>
            </a:endParaRPr>
          </a:p>
          <a:p>
            <a:pPr lvl="5" algn="ctr">
              <a:buClr>
                <a:srgbClr val="595650"/>
              </a:buClr>
              <a:buFont typeface="Hoefler Tex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4b4b4b"/>
                </a:solidFill>
                <a:latin typeface="Hoefler Text"/>
              </a:rPr>
              <a:t>Sixth Outline Level</a:t>
            </a:r>
            <a:endParaRPr b="0" lang="en-US" sz="5600" spc="-1" strike="noStrike">
              <a:solidFill>
                <a:srgbClr val="4b4b4b"/>
              </a:solidFill>
              <a:latin typeface="Hoefler Text"/>
            </a:endParaRPr>
          </a:p>
          <a:p>
            <a:pPr lvl="6" algn="ctr">
              <a:buClr>
                <a:srgbClr val="595650"/>
              </a:buClr>
              <a:buFont typeface="Hoefler Tex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4b4b4b"/>
                </a:solidFill>
                <a:latin typeface="Hoefler Text"/>
              </a:rPr>
              <a:t>Seventh Outline Level</a:t>
            </a:r>
            <a:endParaRPr b="0" lang="en-US" sz="5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626053"/>
                </a:solidFill>
                <a:latin typeface="Baskerville"/>
              </a:rPr>
              <a:t>Click to edit the title text format</a:t>
            </a: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marL="537120" indent="-537120">
              <a:spcBef>
                <a:spcPts val="28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Click to edit the outline text format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1" marL="907200" indent="-536760">
              <a:spcBef>
                <a:spcPts val="28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Second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2" marL="1325160" indent="-537120">
              <a:spcBef>
                <a:spcPts val="28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Third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3" marL="1742760" indent="-537120">
              <a:spcBef>
                <a:spcPts val="28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Fourth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4" marL="2160360" indent="-536760">
              <a:spcBef>
                <a:spcPts val="28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Fifth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5" marL="2160360" indent="-536760">
              <a:spcBef>
                <a:spcPts val="2801"/>
              </a:spcBef>
              <a:buClr>
                <a:srgbClr val="595650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Sixth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6" marL="2160360" indent="-536760">
              <a:spcBef>
                <a:spcPts val="2801"/>
              </a:spcBef>
              <a:buClr>
                <a:srgbClr val="595650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Seventh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626053"/>
                </a:solidFill>
                <a:latin typeface="Baskerville"/>
              </a:rPr>
              <a:t>Click to edit the title text format</a:t>
            </a: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786960" y="2768400"/>
            <a:ext cx="527076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8000"/>
          </a:bodyPr>
          <a:p>
            <a:pPr marL="445680" indent="-445680">
              <a:spcBef>
                <a:spcPts val="28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Click to edit the outline text format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1" marL="752760" indent="-445320">
              <a:spcBef>
                <a:spcPts val="28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Second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2" marL="1099440" indent="-445680">
              <a:spcBef>
                <a:spcPts val="28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Third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3" marL="1446120" indent="-445680">
              <a:spcBef>
                <a:spcPts val="28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Fourth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4" marL="1792800" indent="-445320">
              <a:spcBef>
                <a:spcPts val="28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Fifth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5" marL="1792800" indent="-445320">
              <a:spcBef>
                <a:spcPts val="2801"/>
              </a:spcBef>
              <a:buClr>
                <a:srgbClr val="595650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Sixth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6" marL="1792800" indent="-445320">
              <a:spcBef>
                <a:spcPts val="2801"/>
              </a:spcBef>
              <a:buClr>
                <a:srgbClr val="595650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Seventh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626053"/>
                </a:solidFill>
                <a:latin typeface="Baskerville"/>
              </a:rPr>
              <a:t>Click to edit the title text format</a:t>
            </a: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786960" y="2768400"/>
            <a:ext cx="527076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8000"/>
          </a:bodyPr>
          <a:p>
            <a:pPr marL="445680" indent="-445680">
              <a:spcBef>
                <a:spcPts val="28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Click to edit the outline text format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1" marL="752760" indent="-445320">
              <a:spcBef>
                <a:spcPts val="28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Second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2" marL="1099440" indent="-445680">
              <a:spcBef>
                <a:spcPts val="28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Third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3" marL="1446120" indent="-445680">
              <a:spcBef>
                <a:spcPts val="28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Fourth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4" marL="1792800" indent="-445320">
              <a:spcBef>
                <a:spcPts val="28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Fifth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5" marL="1792800" indent="-445320">
              <a:spcBef>
                <a:spcPts val="2801"/>
              </a:spcBef>
              <a:buClr>
                <a:srgbClr val="595650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Sixth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6" marL="1792800" indent="-445320">
              <a:spcBef>
                <a:spcPts val="2801"/>
              </a:spcBef>
              <a:buClr>
                <a:srgbClr val="595650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Seventh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786960" y="1981080"/>
            <a:ext cx="5270760" cy="334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1f5b5a"/>
                </a:solidFill>
                <a:latin typeface="Baskerville"/>
              </a:rPr>
              <a:t>Click to edit the title text format</a:t>
            </a:r>
            <a:endParaRPr b="0" lang="en-US" sz="7800" spc="-1" strike="noStrike">
              <a:solidFill>
                <a:srgbClr val="1f5b5a"/>
              </a:solidFill>
              <a:latin typeface="Baskerville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86960" y="5308560"/>
            <a:ext cx="5270760" cy="246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9000"/>
          </a:bodyPr>
          <a:p>
            <a:pPr indent="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Click to edit the outline text format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1" algn="ctr">
              <a:spcBef>
                <a:spcPts val="1199"/>
              </a:spcBef>
              <a:buClr>
                <a:srgbClr val="4b4b4b"/>
              </a:buClr>
              <a:buFont typeface="Hoefler Tex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Second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2" algn="ctr">
              <a:spcBef>
                <a:spcPts val="1199"/>
              </a:spcBef>
              <a:buClr>
                <a:srgbClr val="4b4b4b"/>
              </a:buClr>
              <a:buFont typeface="Hoefler Tex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Third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3" algn="ctr">
              <a:spcBef>
                <a:spcPts val="1199"/>
              </a:spcBef>
              <a:buClr>
                <a:srgbClr val="4b4b4b"/>
              </a:buClr>
              <a:buFont typeface="Hoefler Tex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Fourth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4" algn="ctr">
              <a:spcBef>
                <a:spcPts val="1199"/>
              </a:spcBef>
              <a:buClr>
                <a:srgbClr val="4b4b4b"/>
              </a:buClr>
              <a:buFont typeface="Hoefler Tex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Fifth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5" algn="ctr">
              <a:spcBef>
                <a:spcPts val="1199"/>
              </a:spcBef>
              <a:buClr>
                <a:srgbClr val="595650"/>
              </a:buClr>
              <a:buFont typeface="Hoefler Tex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Sixth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6" algn="ctr">
              <a:spcBef>
                <a:spcPts val="1199"/>
              </a:spcBef>
              <a:buClr>
                <a:srgbClr val="595650"/>
              </a:buClr>
              <a:buFont typeface="Hoefler Tex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Seventh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787320" y="7188120"/>
            <a:ext cx="1143000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1f5b5a"/>
                </a:solidFill>
                <a:latin typeface="Baskerville"/>
              </a:rPr>
              <a:t>Click to edit the title text format</a:t>
            </a:r>
            <a:endParaRPr b="0" lang="en-US" sz="7800" spc="-1" strike="noStrike">
              <a:solidFill>
                <a:srgbClr val="1f5b5a"/>
              </a:solidFill>
              <a:latin typeface="Baskervill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787320" y="8445600"/>
            <a:ext cx="11430000" cy="774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14000"/>
          </a:bodyPr>
          <a:p>
            <a:pPr indent="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Click to edit the outline text format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1" algn="ctr">
              <a:spcBef>
                <a:spcPts val="1199"/>
              </a:spcBef>
              <a:buClr>
                <a:srgbClr val="4b4b4b"/>
              </a:buClr>
              <a:buFont typeface="Hoefler Tex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Second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2" algn="ctr">
              <a:spcBef>
                <a:spcPts val="1199"/>
              </a:spcBef>
              <a:buClr>
                <a:srgbClr val="4b4b4b"/>
              </a:buClr>
              <a:buFont typeface="Hoefler Tex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Third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3" algn="ctr">
              <a:spcBef>
                <a:spcPts val="1199"/>
              </a:spcBef>
              <a:buClr>
                <a:srgbClr val="4b4b4b"/>
              </a:buClr>
              <a:buFont typeface="Hoefler Tex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Fourth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4" algn="ctr">
              <a:spcBef>
                <a:spcPts val="1199"/>
              </a:spcBef>
              <a:buClr>
                <a:srgbClr val="4b4b4b"/>
              </a:buClr>
              <a:buFont typeface="Hoefler Tex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Fifth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5" algn="ctr">
              <a:spcBef>
                <a:spcPts val="1199"/>
              </a:spcBef>
              <a:buClr>
                <a:srgbClr val="595650"/>
              </a:buClr>
              <a:buFont typeface="Hoefler Tex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Sixth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6" algn="ctr">
              <a:spcBef>
                <a:spcPts val="1199"/>
              </a:spcBef>
              <a:buClr>
                <a:srgbClr val="595650"/>
              </a:buClr>
              <a:buFont typeface="Hoefler Tex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Seventh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626053"/>
                </a:solidFill>
                <a:latin typeface="Baskerville"/>
              </a:rPr>
              <a:t>Click to edit the title text format</a:t>
            </a: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946920" y="2768400"/>
            <a:ext cx="52704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8000"/>
          </a:bodyPr>
          <a:p>
            <a:pPr marL="445680" indent="-445680">
              <a:spcBef>
                <a:spcPts val="28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Click to edit the outline text format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1" marL="752760" indent="-445320">
              <a:spcBef>
                <a:spcPts val="28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Second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2" marL="1099440" indent="-445680">
              <a:spcBef>
                <a:spcPts val="28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Third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3" marL="1446120" indent="-445680">
              <a:spcBef>
                <a:spcPts val="28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Fourth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4" marL="1792800" indent="-445320">
              <a:spcBef>
                <a:spcPts val="28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Fifth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5" marL="1792800" indent="-445320">
              <a:spcBef>
                <a:spcPts val="2801"/>
              </a:spcBef>
              <a:buClr>
                <a:srgbClr val="595650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Sixth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6" marL="1792800" indent="-445320">
              <a:spcBef>
                <a:spcPts val="2801"/>
              </a:spcBef>
              <a:buClr>
                <a:srgbClr val="595650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Seventh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body"/>
          </p:nvPr>
        </p:nvSpPr>
        <p:spPr>
          <a:xfrm>
            <a:off x="787320" y="1257480"/>
            <a:ext cx="11430000" cy="723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571680" indent="-571680">
              <a:spcBef>
                <a:spcPts val="42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Click to edit the outline text format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1" marL="965160" indent="-571320">
              <a:spcBef>
                <a:spcPts val="42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Second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2" marL="1409760" indent="-571680">
              <a:spcBef>
                <a:spcPts val="42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Third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3" marL="1854360" indent="-571680">
              <a:spcBef>
                <a:spcPts val="42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Fourth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4" marL="2298600" indent="-571320">
              <a:spcBef>
                <a:spcPts val="42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Fifth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5" marL="2298600" indent="-571320">
              <a:spcBef>
                <a:spcPts val="4201"/>
              </a:spcBef>
              <a:buClr>
                <a:srgbClr val="595650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Sixth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6" marL="2298600" indent="-571320">
              <a:spcBef>
                <a:spcPts val="4201"/>
              </a:spcBef>
              <a:buClr>
                <a:srgbClr val="595650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Seventh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radiochemistry.org/periodictable/elements/13.html" TargetMode="External"/><Relationship Id="rId3" Type="http://schemas.openxmlformats.org/officeDocument/2006/relationships/hyperlink" Target="http://www.radiochemistry.org/periodictable/elements/13.html" TargetMode="External"/><Relationship Id="rId4" Type="http://schemas.openxmlformats.org/officeDocument/2006/relationships/hyperlink" Target="http://www.periodictable.com/" TargetMode="External"/><Relationship Id="rId5" Type="http://schemas.openxmlformats.org/officeDocument/2006/relationships/hyperlink" Target="http://www.radiochemistry.org/periodictable/elements/13.html" TargetMode="External"/><Relationship Id="rId6" Type="http://schemas.openxmlformats.org/officeDocument/2006/relationships/hyperlink" Target="http://www.radiochemistry.org/periodictable/elements/13.html" TargetMode="External"/><Relationship Id="rId7" Type="http://schemas.openxmlformats.org/officeDocument/2006/relationships/hyperlink" Target="http://www.radiochemistry.org/periodictable/elements/13.html" TargetMode="External"/><Relationship Id="rId8" Type="http://schemas.openxmlformats.org/officeDocument/2006/relationships/hyperlink" Target="http://www.webelements.com/aluminium/physics.html" TargetMode="External"/><Relationship Id="rId9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"/>
          <p:cNvSpPr/>
          <p:nvPr/>
        </p:nvSpPr>
        <p:spPr>
          <a:xfrm>
            <a:off x="2359080" y="4146480"/>
            <a:ext cx="8267760" cy="11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595650"/>
                </a:solidFill>
                <a:latin typeface="Hoefler Text"/>
                <a:ea typeface="Hoefler Text"/>
              </a:rPr>
              <a:t>ALUMINUM</a:t>
            </a:r>
            <a:endParaRPr b="0" lang="en-US" sz="5000" spc="-1" strike="noStrike">
              <a:solidFill>
                <a:srgbClr val="595650"/>
              </a:solidFill>
              <a:latin typeface="Hoefler Tex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95650"/>
                </a:solidFill>
                <a:latin typeface="Hoefler Text"/>
                <a:ea typeface="Hoefler Text"/>
              </a:rPr>
              <a:t>BY  CONNOR  WASHBURN</a:t>
            </a:r>
            <a:endParaRPr b="0" lang="en-US" sz="2000" spc="-1" strike="noStrike">
              <a:solidFill>
                <a:srgbClr val="595650"/>
              </a:solidFill>
              <a:latin typeface="Hoefler Text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3" name="" descr=""/>
          <p:cNvPicPr/>
          <p:nvPr/>
        </p:nvPicPr>
        <p:blipFill>
          <a:blip r:embed="rId2"/>
          <a:stretch/>
        </p:blipFill>
        <p:spPr>
          <a:xfrm>
            <a:off x="871560" y="741240"/>
            <a:ext cx="6146640" cy="4826160"/>
          </a:xfrm>
          <a:prstGeom prst="rect">
            <a:avLst/>
          </a:prstGeom>
          <a:ln w="0">
            <a:noFill/>
          </a:ln>
        </p:spPr>
      </p:pic>
      <p:sp>
        <p:nvSpPr>
          <p:cNvPr id="454" name=""/>
          <p:cNvSpPr/>
          <p:nvPr/>
        </p:nvSpPr>
        <p:spPr>
          <a:xfrm>
            <a:off x="6165360" y="6046200"/>
            <a:ext cx="5514480" cy="21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95650"/>
                </a:solidFill>
                <a:latin typeface="Hoefler Text"/>
                <a:ea typeface="Hoefler Text"/>
              </a:rPr>
              <a:t>SYMBOL= Al</a:t>
            </a:r>
            <a:endParaRPr b="0" lang="en-US" sz="3600" spc="-1" strike="noStrike">
              <a:solidFill>
                <a:srgbClr val="595650"/>
              </a:solidFill>
              <a:latin typeface="Hoefler Tex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95650"/>
                </a:solidFill>
                <a:latin typeface="Hoefler Text"/>
                <a:ea typeface="Hoefler Text"/>
              </a:rPr>
              <a:t>ATOMIC NUMBER=13</a:t>
            </a:r>
            <a:endParaRPr b="0" lang="en-US" sz="3600" spc="-1" strike="noStrike">
              <a:solidFill>
                <a:srgbClr val="595650"/>
              </a:solidFill>
              <a:latin typeface="Hoefler Tex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95650"/>
                </a:solidFill>
                <a:latin typeface="Hoefler Text"/>
                <a:ea typeface="Hoefler Text"/>
              </a:rPr>
              <a:t>ATOMIC MASS= 27</a:t>
            </a:r>
            <a:endParaRPr b="0" lang="en-US" sz="3600" spc="-1" strike="noStrike">
              <a:solidFill>
                <a:srgbClr val="595650"/>
              </a:solidFill>
              <a:latin typeface="Hoefler Tex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95650"/>
                </a:solidFill>
                <a:latin typeface="Hoefler Text"/>
                <a:ea typeface="Hoefler Text"/>
              </a:rPr>
              <a:t>SHELL STRUCTURE=2, 8, 3</a:t>
            </a:r>
            <a:endParaRPr b="0" lang="en-US" sz="3600" spc="-1" strike="noStrike">
              <a:solidFill>
                <a:srgbClr val="595650"/>
              </a:solidFill>
              <a:latin typeface="Hoefler Text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5" name="" descr=""/>
          <p:cNvPicPr/>
          <p:nvPr/>
        </p:nvPicPr>
        <p:blipFill>
          <a:blip r:embed="rId2"/>
          <a:stretch/>
        </p:blipFill>
        <p:spPr>
          <a:xfrm>
            <a:off x="806400" y="939960"/>
            <a:ext cx="5102280" cy="4762440"/>
          </a:xfrm>
          <a:prstGeom prst="rect">
            <a:avLst/>
          </a:prstGeom>
          <a:ln w="0">
            <a:noFill/>
          </a:ln>
        </p:spPr>
      </p:pic>
      <p:pic>
        <p:nvPicPr>
          <p:cNvPr id="456" name="" descr=""/>
          <p:cNvPicPr/>
          <p:nvPr/>
        </p:nvPicPr>
        <p:blipFill>
          <a:blip r:embed="rId3"/>
          <a:stretch/>
        </p:blipFill>
        <p:spPr>
          <a:xfrm>
            <a:off x="5587920" y="6997680"/>
            <a:ext cx="5943600" cy="2225520"/>
          </a:xfrm>
          <a:prstGeom prst="rect">
            <a:avLst/>
          </a:prstGeom>
          <a:ln w="0">
            <a:noFill/>
          </a:ln>
        </p:spPr>
      </p:pic>
      <p:sp>
        <p:nvSpPr>
          <p:cNvPr id="457" name=""/>
          <p:cNvSpPr/>
          <p:nvPr/>
        </p:nvSpPr>
        <p:spPr>
          <a:xfrm>
            <a:off x="6372360" y="2000160"/>
            <a:ext cx="393696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95650"/>
                </a:solidFill>
                <a:latin typeface="Hoefler Text"/>
                <a:ea typeface="Hoefler Text"/>
              </a:rPr>
              <a:t>STRUCTURE OF THE ATOM</a:t>
            </a:r>
            <a:endParaRPr b="0" lang="en-US" sz="3600" spc="-1" strike="noStrike">
              <a:solidFill>
                <a:srgbClr val="595650"/>
              </a:solidFill>
              <a:latin typeface="Hoefler Text"/>
            </a:endParaRPr>
          </a:p>
        </p:txBody>
      </p:sp>
      <p:sp>
        <p:nvSpPr>
          <p:cNvPr id="458" name=""/>
          <p:cNvSpPr/>
          <p:nvPr/>
        </p:nvSpPr>
        <p:spPr>
          <a:xfrm>
            <a:off x="1436760" y="6616800"/>
            <a:ext cx="2654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95650"/>
                </a:solidFill>
                <a:latin typeface="Hoefler Text"/>
                <a:ea typeface="Hoefler Text"/>
              </a:rPr>
              <a:t>PICTURE OF THE ATOM</a:t>
            </a:r>
            <a:endParaRPr b="0" lang="en-US" sz="3600" spc="-1" strike="noStrike">
              <a:solidFill>
                <a:srgbClr val="595650"/>
              </a:solidFill>
              <a:latin typeface="Hoefler Text"/>
            </a:endParaRPr>
          </a:p>
        </p:txBody>
      </p:sp>
      <p:sp>
        <p:nvSpPr>
          <p:cNvPr id="459" name=""/>
          <p:cNvSpPr/>
          <p:nvPr/>
        </p:nvSpPr>
        <p:spPr>
          <a:xfrm flipV="1">
            <a:off x="5207040" y="2933280"/>
            <a:ext cx="1790640" cy="787320"/>
          </a:xfrm>
          <a:prstGeom prst="line">
            <a:avLst/>
          </a:prstGeom>
          <a:ln w="12600">
            <a:solidFill>
              <a:srgbClr val="6a6f72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95650"/>
              </a:solidFill>
              <a:latin typeface="Hoefler Text"/>
            </a:endParaRPr>
          </a:p>
        </p:txBody>
      </p:sp>
      <p:sp>
        <p:nvSpPr>
          <p:cNvPr id="460" name=""/>
          <p:cNvSpPr/>
          <p:nvPr/>
        </p:nvSpPr>
        <p:spPr>
          <a:xfrm flipH="1" flipV="1">
            <a:off x="3695400" y="7505640"/>
            <a:ext cx="2133720" cy="812880"/>
          </a:xfrm>
          <a:prstGeom prst="line">
            <a:avLst/>
          </a:prstGeom>
          <a:ln w="12600">
            <a:solidFill>
              <a:srgbClr val="6a6f72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95650"/>
              </a:solidFill>
              <a:latin typeface="Hoefler Text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"/>
          <p:cNvSpPr/>
          <p:nvPr/>
        </p:nvSpPr>
        <p:spPr>
          <a:xfrm>
            <a:off x="611280" y="1854360"/>
            <a:ext cx="49276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95650"/>
                </a:solidFill>
                <a:latin typeface="Hoefler Text"/>
                <a:ea typeface="Hoefler Text"/>
              </a:rPr>
              <a:t>DISCOVERER?</a:t>
            </a:r>
            <a:endParaRPr b="0" lang="en-US" sz="3600" spc="-1" strike="noStrike">
              <a:solidFill>
                <a:srgbClr val="595650"/>
              </a:solidFill>
              <a:latin typeface="Hoefler Tex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95650"/>
              </a:solidFill>
              <a:latin typeface="Hoefler Text"/>
            </a:endParaRPr>
          </a:p>
          <a:p>
            <a:pPr algn="ctr">
              <a:lnSpc>
                <a:spcPct val="100000"/>
              </a:lnSpc>
              <a:buClr>
                <a:srgbClr val="595650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650"/>
                </a:solidFill>
                <a:latin typeface="Hoefler Text"/>
                <a:ea typeface="Hoefler Text"/>
              </a:rPr>
              <a:t>HANS CHRISTIAN OERSTED</a:t>
            </a:r>
            <a:endParaRPr b="0" lang="en-US" sz="2400" spc="-1" strike="noStrike">
              <a:solidFill>
                <a:srgbClr val="595650"/>
              </a:solidFill>
              <a:latin typeface="Hoefler Tex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95650"/>
              </a:solidFill>
              <a:latin typeface="Hoefler Tex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95650"/>
                </a:solidFill>
                <a:latin typeface="Hoefler Text"/>
                <a:ea typeface="Hoefler Text"/>
              </a:rPr>
              <a:t>WHEN?</a:t>
            </a:r>
            <a:endParaRPr b="0" lang="en-US" sz="3600" spc="-1" strike="noStrike">
              <a:solidFill>
                <a:srgbClr val="595650"/>
              </a:solidFill>
              <a:latin typeface="Hoefler Text"/>
            </a:endParaRPr>
          </a:p>
          <a:p>
            <a:pPr algn="ctr">
              <a:lnSpc>
                <a:spcPct val="100000"/>
              </a:lnSpc>
              <a:buClr>
                <a:srgbClr val="595650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650"/>
                </a:solidFill>
                <a:latin typeface="Hoefler Text"/>
                <a:ea typeface="Hoefler Text"/>
              </a:rPr>
              <a:t>1825</a:t>
            </a:r>
            <a:endParaRPr b="0" lang="en-US" sz="2400" spc="-1" strike="noStrike">
              <a:solidFill>
                <a:srgbClr val="595650"/>
              </a:solidFill>
              <a:latin typeface="Hoefler Tex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95650"/>
              </a:solidFill>
              <a:latin typeface="Hoefler Tex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95650"/>
                </a:solidFill>
                <a:latin typeface="Hoefler Text"/>
                <a:ea typeface="Hoefler Text"/>
              </a:rPr>
              <a:t>WHERE?</a:t>
            </a:r>
            <a:endParaRPr b="0" lang="en-US" sz="3600" spc="-1" strike="noStrike">
              <a:solidFill>
                <a:srgbClr val="595650"/>
              </a:solidFill>
              <a:latin typeface="Hoefler Text"/>
            </a:endParaRPr>
          </a:p>
          <a:p>
            <a:pPr algn="ctr">
              <a:lnSpc>
                <a:spcPct val="100000"/>
              </a:lnSpc>
              <a:buClr>
                <a:srgbClr val="595650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650"/>
                </a:solidFill>
                <a:latin typeface="Hoefler Text"/>
                <a:ea typeface="Hoefler Text"/>
              </a:rPr>
              <a:t>DENMARK</a:t>
            </a:r>
            <a:endParaRPr b="0" lang="en-US" sz="2400" spc="-1" strike="noStrike">
              <a:solidFill>
                <a:srgbClr val="595650"/>
              </a:solidFill>
              <a:latin typeface="Hoefler Text"/>
            </a:endParaRPr>
          </a:p>
        </p:txBody>
      </p:sp>
      <p:pic>
        <p:nvPicPr>
          <p:cNvPr id="462" name="" descr=""/>
          <p:cNvPicPr/>
          <p:nvPr/>
        </p:nvPicPr>
        <p:blipFill>
          <a:blip r:embed="rId2"/>
          <a:stretch/>
        </p:blipFill>
        <p:spPr>
          <a:xfrm>
            <a:off x="8912160" y="870120"/>
            <a:ext cx="2863800" cy="3759120"/>
          </a:xfrm>
          <a:prstGeom prst="rect">
            <a:avLst/>
          </a:prstGeom>
          <a:ln w="0">
            <a:noFill/>
          </a:ln>
        </p:spPr>
      </p:pic>
      <p:pic>
        <p:nvPicPr>
          <p:cNvPr id="463" name="" descr=""/>
          <p:cNvPicPr/>
          <p:nvPr/>
        </p:nvPicPr>
        <p:blipFill>
          <a:blip r:embed="rId3"/>
          <a:stretch/>
        </p:blipFill>
        <p:spPr>
          <a:xfrm>
            <a:off x="5054760" y="5011560"/>
            <a:ext cx="3162240" cy="340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4" name="" descr=""/>
          <p:cNvPicPr/>
          <p:nvPr/>
        </p:nvPicPr>
        <p:blipFill>
          <a:blip r:embed="rId2"/>
          <a:stretch/>
        </p:blipFill>
        <p:spPr>
          <a:xfrm>
            <a:off x="455760" y="2384280"/>
            <a:ext cx="6984720" cy="4651560"/>
          </a:xfrm>
          <a:prstGeom prst="rect">
            <a:avLst/>
          </a:prstGeom>
          <a:ln w="0">
            <a:noFill/>
          </a:ln>
        </p:spPr>
      </p:pic>
      <p:grpSp>
        <p:nvGrpSpPr>
          <p:cNvPr id="465" name=""/>
          <p:cNvGrpSpPr/>
          <p:nvPr/>
        </p:nvGrpSpPr>
        <p:grpSpPr>
          <a:xfrm>
            <a:off x="0" y="0"/>
            <a:ext cx="5397480" cy="4521240"/>
            <a:chOff x="0" y="0"/>
            <a:chExt cx="5397480" cy="4521240"/>
          </a:xfrm>
        </p:grpSpPr>
        <p:sp>
          <p:nvSpPr>
            <p:cNvPr id="466" name=""/>
            <p:cNvSpPr/>
            <p:nvPr/>
          </p:nvSpPr>
          <p:spPr>
            <a:xfrm>
              <a:off x="4838760" y="3898800"/>
              <a:ext cx="558720" cy="6224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595650"/>
                </a:solidFill>
                <a:latin typeface="Hoefler Text"/>
              </a:endParaRPr>
            </a:p>
          </p:txBody>
        </p:sp>
        <p:pic>
          <p:nvPicPr>
            <p:cNvPr id="467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660240" cy="723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68" name=""/>
          <p:cNvSpPr/>
          <p:nvPr/>
        </p:nvSpPr>
        <p:spPr>
          <a:xfrm>
            <a:off x="8231040" y="1562040"/>
            <a:ext cx="3251520" cy="501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95650"/>
                </a:solidFill>
                <a:latin typeface="Hoefler Text"/>
                <a:ea typeface="Hoefler Text"/>
              </a:rPr>
              <a:t>GROUP= 13</a:t>
            </a:r>
            <a:endParaRPr b="0" lang="en-US" sz="3600" spc="-1" strike="noStrike">
              <a:solidFill>
                <a:srgbClr val="595650"/>
              </a:solidFill>
              <a:latin typeface="Hoefler Tex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95650"/>
              </a:solidFill>
              <a:latin typeface="Hoefler Tex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95650"/>
                </a:solidFill>
                <a:latin typeface="Hoefler Text"/>
                <a:ea typeface="Hoefler Text"/>
              </a:rPr>
              <a:t>PERIOD= 3</a:t>
            </a:r>
            <a:endParaRPr b="0" lang="en-US" sz="3600" spc="-1" strike="noStrike">
              <a:solidFill>
                <a:srgbClr val="595650"/>
              </a:solidFill>
              <a:latin typeface="Hoefler Tex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95650"/>
              </a:solidFill>
              <a:latin typeface="Hoefler Tex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95650"/>
                </a:solidFill>
                <a:latin typeface="Hoefler Text"/>
                <a:ea typeface="Hoefler Text"/>
              </a:rPr>
              <a:t>IT IS APART OF THE OTHER METALS GROUP</a:t>
            </a:r>
            <a:endParaRPr b="0" lang="en-US" sz="3600" spc="-1" strike="noStrike">
              <a:solidFill>
                <a:srgbClr val="595650"/>
              </a:solidFill>
              <a:latin typeface="Hoefler Text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662040" y="1606680"/>
            <a:ext cx="6565680" cy="27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595650"/>
                </a:solidFill>
                <a:latin typeface="Hoefler Text"/>
                <a:ea typeface="Hoefler Text"/>
              </a:rPr>
              <a:t>ALUMINUM IS A SILVERY, WHITE METAL. IT IS LIGHT  WEIGHT AND NON- MAGNETIC AND NON- SPARKING.</a:t>
            </a:r>
            <a:endParaRPr b="0" lang="en-US" sz="2500" spc="-1" strike="noStrike">
              <a:solidFill>
                <a:srgbClr val="595650"/>
              </a:solidFill>
              <a:latin typeface="Hoefler Tex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595650"/>
                </a:solidFill>
                <a:latin typeface="Hoefler Text"/>
                <a:ea typeface="Hoefler Text"/>
              </a:rPr>
              <a:t>IT IS MAINLY USED FOR KITCHEN UTENSILS, AND OUTSIDE BUILDING DECORATIONS. </a:t>
            </a:r>
            <a:endParaRPr b="0" lang="en-US" sz="2500" spc="-1" strike="noStrike">
              <a:solidFill>
                <a:srgbClr val="595650"/>
              </a:solidFill>
              <a:latin typeface="Hoefler Text"/>
            </a:endParaRPr>
          </a:p>
        </p:txBody>
      </p:sp>
      <p:pic>
        <p:nvPicPr>
          <p:cNvPr id="470" name="" descr=""/>
          <p:cNvPicPr/>
          <p:nvPr/>
        </p:nvPicPr>
        <p:blipFill>
          <a:blip r:embed="rId2"/>
          <a:stretch/>
        </p:blipFill>
        <p:spPr>
          <a:xfrm>
            <a:off x="7404120" y="1943280"/>
            <a:ext cx="2730600" cy="2730240"/>
          </a:xfrm>
          <a:prstGeom prst="rect">
            <a:avLst/>
          </a:prstGeom>
          <a:ln w="0">
            <a:noFill/>
          </a:ln>
        </p:spPr>
      </p:pic>
      <p:pic>
        <p:nvPicPr>
          <p:cNvPr id="471" name="" descr=""/>
          <p:cNvPicPr/>
          <p:nvPr/>
        </p:nvPicPr>
        <p:blipFill>
          <a:blip r:embed="rId3"/>
          <a:stretch/>
        </p:blipFill>
        <p:spPr>
          <a:xfrm>
            <a:off x="1339920" y="5114880"/>
            <a:ext cx="3657600" cy="3468600"/>
          </a:xfrm>
          <a:prstGeom prst="rect">
            <a:avLst/>
          </a:prstGeom>
          <a:ln w="0">
            <a:noFill/>
          </a:ln>
        </p:spPr>
      </p:pic>
      <p:sp>
        <p:nvSpPr>
          <p:cNvPr id="472" name=""/>
          <p:cNvSpPr/>
          <p:nvPr/>
        </p:nvSpPr>
        <p:spPr>
          <a:xfrm>
            <a:off x="6299280" y="6451560"/>
            <a:ext cx="5460840" cy="200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595650"/>
                </a:solidFill>
                <a:latin typeface="Hoefler Text"/>
                <a:ea typeface="Hoefler Text"/>
              </a:rPr>
              <a:t>ALSO IT IS A COATING FOR TELESCOPES, MIRRORS, AND TO MAKE DECORATIVE PAPER, PACKAGES, AND TOYS.</a:t>
            </a:r>
            <a:endParaRPr b="0" lang="en-US" sz="2500" spc="-1" strike="noStrike">
              <a:solidFill>
                <a:srgbClr val="595650"/>
              </a:solidFill>
              <a:latin typeface="Hoefler Text"/>
            </a:endParaRPr>
          </a:p>
        </p:txBody>
      </p:sp>
      <p:sp>
        <p:nvSpPr>
          <p:cNvPr id="473" name=""/>
          <p:cNvSpPr/>
          <p:nvPr/>
        </p:nvSpPr>
        <p:spPr>
          <a:xfrm>
            <a:off x="3520800" y="623520"/>
            <a:ext cx="595188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95650"/>
                </a:solidFill>
                <a:latin typeface="Hoefler Text"/>
                <a:ea typeface="Hoefler Text"/>
              </a:rPr>
              <a:t>PHYSICAL PROPERTIES</a:t>
            </a:r>
            <a:endParaRPr b="0" lang="en-US" sz="4400" spc="-1" strike="noStrike">
              <a:solidFill>
                <a:srgbClr val="595650"/>
              </a:solidFill>
              <a:latin typeface="Hoefler Text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"/>
          <p:cNvSpPr/>
          <p:nvPr/>
        </p:nvSpPr>
        <p:spPr>
          <a:xfrm>
            <a:off x="3848400" y="1050480"/>
            <a:ext cx="5296680" cy="13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95650"/>
                </a:solidFill>
                <a:latin typeface="Hoefler Text"/>
                <a:ea typeface="Hoefler Text"/>
              </a:rPr>
              <a:t>INTERESTING FACTS</a:t>
            </a:r>
            <a:endParaRPr b="0" lang="en-US" sz="4400" spc="-1" strike="noStrike">
              <a:solidFill>
                <a:srgbClr val="595650"/>
              </a:solidFill>
              <a:latin typeface="Hoefler Tex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Hoefler Text"/>
            </a:endParaRPr>
          </a:p>
        </p:txBody>
      </p:sp>
      <p:sp>
        <p:nvSpPr>
          <p:cNvPr id="475" name=""/>
          <p:cNvSpPr/>
          <p:nvPr/>
        </p:nvSpPr>
        <p:spPr>
          <a:xfrm>
            <a:off x="826920" y="2698920"/>
            <a:ext cx="516924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buClr>
                <a:srgbClr val="595650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595650"/>
                </a:solidFill>
                <a:latin typeface="Arial"/>
                <a:ea typeface="Arial"/>
              </a:rPr>
              <a:t>ALUMINUM IS THE MOST ABUNDANT METAL IN THE EARTHS CRUST</a:t>
            </a:r>
            <a:endParaRPr b="0" lang="en-US" sz="2500" spc="-1" strike="noStrike">
              <a:solidFill>
                <a:srgbClr val="595650"/>
              </a:solidFill>
              <a:latin typeface="Hoefler Text"/>
            </a:endParaRPr>
          </a:p>
        </p:txBody>
      </p:sp>
      <p:sp>
        <p:nvSpPr>
          <p:cNvPr id="476" name=""/>
          <p:cNvSpPr/>
          <p:nvPr/>
        </p:nvSpPr>
        <p:spPr>
          <a:xfrm>
            <a:off x="1144440" y="4946760"/>
            <a:ext cx="4165920" cy="200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buClr>
                <a:srgbClr val="595650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595650"/>
                </a:solidFill>
                <a:latin typeface="Arial"/>
                <a:ea typeface="Arial"/>
              </a:rPr>
              <a:t>Aluminum is one of the most important metals because it can stay in a powder form which makes it essential for silver paint.</a:t>
            </a:r>
            <a:endParaRPr b="0" lang="en-US" sz="2500" spc="-1" strike="noStrike">
              <a:solidFill>
                <a:srgbClr val="595650"/>
              </a:solidFill>
              <a:latin typeface="Hoefler Text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"/>
          <p:cNvSpPr/>
          <p:nvPr/>
        </p:nvSpPr>
        <p:spPr>
          <a:xfrm>
            <a:off x="3201840" y="2112120"/>
            <a:ext cx="4092840" cy="2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Verdana"/>
                <a:ea typeface="Verdana"/>
                <a:hlinkClick r:id="rId2"/>
              </a:rPr>
              <a:t>www.radiochemistry.org/periodictable/elements/13.html</a:t>
            </a:r>
            <a:endParaRPr b="0" lang="en-US" sz="1200" spc="-1" strike="noStrike">
              <a:solidFill>
                <a:srgbClr val="595650"/>
              </a:solidFill>
              <a:latin typeface="Hoefler Text"/>
            </a:endParaRPr>
          </a:p>
        </p:txBody>
      </p:sp>
      <p:sp>
        <p:nvSpPr>
          <p:cNvPr id="478" name=""/>
          <p:cNvSpPr/>
          <p:nvPr/>
        </p:nvSpPr>
        <p:spPr>
          <a:xfrm>
            <a:off x="3200040" y="2696400"/>
            <a:ext cx="4092840" cy="2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Verdana"/>
                <a:ea typeface="Verdana"/>
                <a:hlinkClick r:id="rId3"/>
              </a:rPr>
              <a:t>www.radiochemistry.org/periodictable/elements/13.html</a:t>
            </a:r>
            <a:endParaRPr b="0" lang="en-US" sz="1200" spc="-1" strike="noStrike">
              <a:solidFill>
                <a:srgbClr val="595650"/>
              </a:solidFill>
              <a:latin typeface="Hoefler Text"/>
            </a:endParaRPr>
          </a:p>
        </p:txBody>
      </p:sp>
      <p:sp>
        <p:nvSpPr>
          <p:cNvPr id="479" name=""/>
          <p:cNvSpPr/>
          <p:nvPr/>
        </p:nvSpPr>
        <p:spPr>
          <a:xfrm>
            <a:off x="3439800" y="3460680"/>
            <a:ext cx="1954440" cy="1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ts val="1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4"/>
              </a:rPr>
              <a:t>http://www.periodictable.com</a:t>
            </a:r>
            <a:endParaRPr b="0" lang="en-US" sz="1200" spc="-1" strike="noStrike">
              <a:solidFill>
                <a:srgbClr val="595650"/>
              </a:solidFill>
              <a:latin typeface="Hoefler Text"/>
            </a:endParaRPr>
          </a:p>
        </p:txBody>
      </p:sp>
      <p:sp>
        <p:nvSpPr>
          <p:cNvPr id="480" name=""/>
          <p:cNvSpPr/>
          <p:nvPr/>
        </p:nvSpPr>
        <p:spPr>
          <a:xfrm>
            <a:off x="3200040" y="4334760"/>
            <a:ext cx="4092840" cy="2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Verdana"/>
                <a:ea typeface="Verdana"/>
                <a:hlinkClick r:id="rId5"/>
              </a:rPr>
              <a:t>www.radiochemistry.org/periodictable/elements/13.html</a:t>
            </a:r>
            <a:endParaRPr b="0" lang="en-US" sz="1200" spc="-1" strike="noStrike">
              <a:solidFill>
                <a:srgbClr val="595650"/>
              </a:solidFill>
              <a:latin typeface="Hoefler Text"/>
            </a:endParaRPr>
          </a:p>
        </p:txBody>
      </p:sp>
      <p:sp>
        <p:nvSpPr>
          <p:cNvPr id="481" name=""/>
          <p:cNvSpPr/>
          <p:nvPr/>
        </p:nvSpPr>
        <p:spPr>
          <a:xfrm>
            <a:off x="3200040" y="4766400"/>
            <a:ext cx="4092840" cy="2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Verdana"/>
                <a:ea typeface="Verdana"/>
                <a:hlinkClick r:id="rId6"/>
              </a:rPr>
              <a:t>www.radiochemistry.org/periodictable/elements/13.html</a:t>
            </a:r>
            <a:endParaRPr b="0" lang="en-US" sz="1200" spc="-1" strike="noStrike">
              <a:solidFill>
                <a:srgbClr val="595650"/>
              </a:solidFill>
              <a:latin typeface="Hoefler Text"/>
            </a:endParaRPr>
          </a:p>
        </p:txBody>
      </p:sp>
      <p:sp>
        <p:nvSpPr>
          <p:cNvPr id="482" name=""/>
          <p:cNvSpPr/>
          <p:nvPr/>
        </p:nvSpPr>
        <p:spPr>
          <a:xfrm>
            <a:off x="3200040" y="5198400"/>
            <a:ext cx="4092840" cy="2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Verdana"/>
                <a:ea typeface="Verdana"/>
                <a:hlinkClick r:id="rId7"/>
              </a:rPr>
              <a:t>www.radiochemistry.org/periodictable/elements/13.html</a:t>
            </a:r>
            <a:endParaRPr b="0" lang="en-US" sz="1200" spc="-1" strike="noStrike">
              <a:solidFill>
                <a:srgbClr val="595650"/>
              </a:solidFill>
              <a:latin typeface="Hoefler Text"/>
            </a:endParaRPr>
          </a:p>
        </p:txBody>
      </p:sp>
      <p:sp>
        <p:nvSpPr>
          <p:cNvPr id="483" name=""/>
          <p:cNvSpPr/>
          <p:nvPr/>
        </p:nvSpPr>
        <p:spPr>
          <a:xfrm>
            <a:off x="3134880" y="5822640"/>
            <a:ext cx="3607920" cy="1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ts val="1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8"/>
              </a:rPr>
              <a:t>http://www.webelements.com/aluminium/physics.html</a:t>
            </a:r>
            <a:endParaRPr b="0" lang="en-US" sz="1200" spc="-1" strike="noStrike">
              <a:solidFill>
                <a:srgbClr val="595650"/>
              </a:solidFill>
              <a:latin typeface="Hoefler Text"/>
            </a:endParaRPr>
          </a:p>
        </p:txBody>
      </p:sp>
      <p:sp>
        <p:nvSpPr>
          <p:cNvPr id="484" name=""/>
          <p:cNvSpPr/>
          <p:nvPr/>
        </p:nvSpPr>
        <p:spPr>
          <a:xfrm>
            <a:off x="3067560" y="6813360"/>
            <a:ext cx="5499360" cy="1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ts val="1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 u="sng">
                <a:solidFill>
                  <a:srgbClr val="000099"/>
                </a:solidFill>
                <a:uFillTx/>
                <a:latin typeface="Verdana"/>
                <a:ea typeface="Verdana"/>
              </a:rPr>
              <a:t>www.worldbookonline.com/student/article?id=ar015300&amp;st=aluminum</a:t>
            </a:r>
            <a:endParaRPr b="0" lang="en-US" sz="1300" spc="-1" strike="noStrike">
              <a:solidFill>
                <a:srgbClr val="595650"/>
              </a:solidFill>
              <a:latin typeface="Hoefler Text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